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757-4BFC-43B4-9D3D-9D03BB32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521-D04D-44B0-BE27-2A9D80AE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9F7-BBA9-4634-96DD-92FC3908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439-3D26-41DC-A45E-F9F105ED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4372-17CD-4966-998E-2D4518F8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2332-FF0F-4FDD-86CD-0EB71D47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3F87-4E90-4EC1-BB8B-CF723DC6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6DE1-401A-4EE8-B642-8A909C96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9D9A-A1BB-4E39-A10B-4E37D5CF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BEA8-0D58-44DC-B842-85BEF5D5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7A4F-82A0-4A85-B2F2-F422CF09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7BD-41BF-46D2-8953-A3EE4F70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5AAC-6AA3-433B-B3AA-CFD4A913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4E3C-FBD6-4E64-BE19-1E94633C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446A-70F1-4D02-884B-D1DA81A3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A783-F9F1-4D8C-8A55-85837DB4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C0A5-7564-4A2B-9865-E3576B68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CD8-07E9-400C-B978-A344826C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ED3-49D2-4D7F-B8B7-623916BD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D32-5D3B-410B-989E-D701DEBE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5E8-F5E1-46DA-A0CA-C0577E5A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680-3EDE-4564-AB48-6714AAD6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2D9-B716-4583-95FE-53E6F7A3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DA9-D940-41D8-BE93-B63BF4BF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7497"/>
            </a:gs>
            <a:gs pos="100000">
              <a:srgbClr val="c8c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41C5-BFC6-4169-A831-3B377AF359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7497"/>
            </a:gs>
            <a:gs pos="100000">
              <a:srgbClr val="c8c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FFC3-4714-48E1-9C17-9D953F23FF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Работа 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с молодыми специалистами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58917980_1273605366_j0198594"/>
          <p:cNvPicPr/>
          <p:nvPr/>
        </p:nvPicPr>
        <p:blipFill>
          <a:blip r:embed="rId1"/>
          <a:stretch/>
        </p:blipFill>
        <p:spPr>
          <a:xfrm>
            <a:off x="152280" y="2666880"/>
            <a:ext cx="5042160" cy="38293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3809880" y="6248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Привольненская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ек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Результативность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бсолютная успеваемость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о знаний от 60 % до72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ттестация педагогических кад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учение на курсах повышения квал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учение в ВУ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стие во многих конкурсах районного, территориального, областного, всероссийского уров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Выводы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аким образом, опыт доказывает, что школа молодого педагога способств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аптации молодого педагога к новым условиям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ю его заинтересованности в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ю положитель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ю педагогического потенц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ю педагогической среды, в которой молодой педагог найдет себя и будет принят и востребов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Модель организации работы с молодыми педагог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о мной работали десятки молодых педагогов. Я убедился, что как бы человек успешно не кончил педагогический вуз, как бы он не был талантлив, а если не будет учится на опыте, никогда не будет хорошим педагогом, я сам учился у более старых педагогов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Мак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в школе условий для профессионального роста молодых педагогов, способствующих снижению проблем адаптации и успешному вхождению в профессиональную деятельность молодог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и воспитывать потребность у молодых педагогов в непрерывном самообразов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гать педагогу, опираясь в своей деятельности на достижения педагогической науки и передового педагогического опыта, творчески внедрять идеи в учебно-воспитательный процес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овать формированию индивидуального стиля творческой деятельности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1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AutoShape 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2361960" y="990720"/>
              <a:ext cx="4385160" cy="42670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2060"/>
                  </a:solidFill>
                  <a:uFillTx/>
                  <a:latin typeface="Times New Roman"/>
                </a:rPr>
                <a:t>Адаптация молодых </a:t>
              </a:r>
              <a:r>
                <a:rPr b="0" i="1" lang="ru-RU" sz="2000" spc="-1" strike="noStrike" u="sng">
                  <a:solidFill>
                    <a:srgbClr val="002060"/>
                  </a:solidFill>
                  <a:uFillTx/>
                  <a:latin typeface="Times New Roman"/>
                </a:rPr>
                <a:t>сп</a:t>
              </a:r>
              <a:r>
                <a:rPr b="1" i="1" lang="ru-RU" sz="2000" spc="-1" strike="noStrike" u="sng">
                  <a:solidFill>
                    <a:srgbClr val="002060"/>
                  </a:solidFill>
                  <a:uFillTx/>
                  <a:latin typeface="Times New Roman"/>
                </a:rPr>
                <a:t>ециалистов в школ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</a:rPr>
                <a:t>Направления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6705000" y="2133720"/>
              <a:ext cx="2437920" cy="27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Courier New"/>
                </a:rPr>
                <a:t>I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Courier New"/>
                </a:rPr>
                <a:t>V </a:t>
              </a: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Courier New"/>
                </a:rPr>
                <a:t>на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сихологическая адаптация молодых специалистов в педагогическом коллектив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1515600" y="304560"/>
              <a:ext cx="61124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Courier New"/>
                </a:rPr>
                <a:t>I  на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рограмма работы с молодыми педагог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urier New"/>
                </a:rPr>
                <a:t>                                                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0" y="2590560"/>
              <a:ext cx="22860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Courier New"/>
                </a:rPr>
                <a:t>II на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аставниче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3285000" y="5334120"/>
              <a:ext cx="2412720" cy="13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Courier New"/>
                </a:rPr>
                <a:t>III на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Открытые уроки, участие в конкурса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1"/>
          <p:cNvGrpSpPr/>
          <p:nvPr/>
        </p:nvGrpSpPr>
        <p:grpSpPr>
          <a:xfrm>
            <a:off x="0" y="914400"/>
            <a:ext cx="9448920" cy="5500800"/>
            <a:chOff x="0" y="914400"/>
            <a:chExt cx="9448920" cy="5500800"/>
          </a:xfrm>
        </p:grpSpPr>
        <p:sp>
          <p:nvSpPr>
            <p:cNvPr id="121" name="AutoShape 22"/>
            <p:cNvSpPr/>
            <p:nvPr/>
          </p:nvSpPr>
          <p:spPr>
            <a:xfrm>
              <a:off x="0" y="914400"/>
              <a:ext cx="9448920" cy="55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3"/>
            <p:cNvSpPr/>
            <p:nvPr/>
          </p:nvSpPr>
          <p:spPr>
            <a:xfrm>
              <a:off x="3297960" y="1258200"/>
              <a:ext cx="2571840" cy="1546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Молодые педаго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4"/>
            <p:cNvSpPr/>
            <p:nvPr/>
          </p:nvSpPr>
          <p:spPr>
            <a:xfrm>
              <a:off x="167040" y="4008600"/>
              <a:ext cx="2571840" cy="1718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олодые педагоги, имеющие педагогическое образование, со стажем работы до 1 г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5"/>
            <p:cNvSpPr/>
            <p:nvPr/>
          </p:nvSpPr>
          <p:spPr>
            <a:xfrm>
              <a:off x="3297960" y="4008600"/>
              <a:ext cx="2571840" cy="1718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олодые педагоги, не имеющие педагогическое образование, со стажем работы до 3 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6"/>
            <p:cNvSpPr/>
            <p:nvPr/>
          </p:nvSpPr>
          <p:spPr>
            <a:xfrm>
              <a:off x="6429240" y="4008600"/>
              <a:ext cx="2571840" cy="1718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олодые педагоги, имеющие педагогическое образование, со стажем работы до 3 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AutoShape 27"/>
            <p:cNvCxnSpPr>
              <a:stCxn id="122" idx="2"/>
              <a:endCxn id="125" idx="0"/>
            </p:cNvCxnSpPr>
            <p:nvPr/>
          </p:nvCxnSpPr>
          <p:spPr>
            <a:xfrm>
              <a:off x="4584600" y="2805480"/>
              <a:ext cx="3131640" cy="120384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7" name="AutoShape 28"/>
            <p:cNvCxnSpPr>
              <a:stCxn id="122" idx="2"/>
              <a:endCxn id="124" idx="0"/>
            </p:cNvCxnSpPr>
            <p:nvPr/>
          </p:nvCxnSpPr>
          <p:spPr>
            <a:xfrm>
              <a:off x="4584600" y="2805480"/>
              <a:ext cx="1800" cy="120384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AutoShape 29"/>
            <p:cNvCxnSpPr>
              <a:stCxn id="122" idx="2"/>
              <a:endCxn id="123" idx="0"/>
            </p:cNvCxnSpPr>
            <p:nvPr/>
          </p:nvCxnSpPr>
          <p:spPr>
            <a:xfrm flipH="1">
              <a:off x="1452960" y="2805480"/>
              <a:ext cx="3131640" cy="120384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вою работу с молодыми специалистами мы строим с учетом трех аспектов их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295280" y="24382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09480" y="1523880"/>
            <a:ext cx="19814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уководитель М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лодой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едагог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733920" y="1447920"/>
            <a:ext cx="18288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"Молодой педагог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ребенок 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его родитель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6172200" y="14479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Молодой педаг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лега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2133720"/>
          <a:ext cx="8915400" cy="47242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оздание условий для легкой адаптации молодого специалиста на работ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обеспечение необходимыми знаниями, умениями, навыкам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методической литературой, материалами перспективного планирования, дидактическими материалами, знакомство с методическим кабинет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авторитета педагога, уважения, интереса к нему у детей и их родителе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азание  поддержки со стороны колле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AutoShape 37"/>
          <p:cNvSpPr/>
          <p:nvPr/>
        </p:nvSpPr>
        <p:spPr>
          <a:xfrm>
            <a:off x="4419720" y="25146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8"/>
          <p:cNvSpPr/>
          <p:nvPr/>
        </p:nvSpPr>
        <p:spPr>
          <a:xfrm>
            <a:off x="6934320" y="24382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/>
          <p:cNvSpPr/>
          <p:nvPr/>
        </p:nvSpPr>
        <p:spPr>
          <a:xfrm>
            <a:off x="0" y="2438280"/>
            <a:ext cx="2590920" cy="441972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4419720"/>
              <a:gd name="textAreaBottom" fmla="*/ 4293360 h 4419720"/>
            </a:gdLst>
            <a:ahLst/>
            <a:rect l="textAreaLeft" t="textAreaTop" r="textAreaRight" b="textAreaBottom"/>
            <a:pathLst>
              <a:path w="21600" h="36844">
                <a:moveTo>
                  <a:pt x="3600" y="0"/>
                </a:moveTo>
                <a:arcTo wR="3600" hR="3600" stAng="16200000" swAng="-5400000"/>
                <a:lnTo>
                  <a:pt x="0" y="33244"/>
                </a:lnTo>
                <a:arcTo wR="3600" hR="3600" stAng="10800000" swAng="-5400000"/>
                <a:lnTo>
                  <a:pt x="18000" y="368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round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развивает свои деловые качест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повышает свой профессиональный уровень в процессе взаимообуч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743200" y="2666880"/>
            <a:ext cx="3048120" cy="389736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3897360"/>
              <a:gd name="textAreaBottom" fmla="*/ 3748680 h 3897360"/>
            </a:gdLst>
            <a:ahLst/>
            <a:rect l="textAreaLeft" t="textAreaTop" r="textAreaRight" b="textAreaBottom"/>
            <a:pathLst>
              <a:path w="21600" h="27617">
                <a:moveTo>
                  <a:pt x="3600" y="0"/>
                </a:moveTo>
                <a:arcTo wR="3600" hR="3600" stAng="16200000" swAng="-5400000"/>
                <a:lnTo>
                  <a:pt x="0" y="24017"/>
                </a:lnTo>
                <a:arcTo wR="3600" hR="3600" stAng="10800000" swAng="-5400000"/>
                <a:lnTo>
                  <a:pt x="18000" y="27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round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чает знания, развивает навыки и умения, повышает свой профессиональный уровень и способности; развивает собственную профессиональную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ьеру; учится выстраивать конструктивные отношения с наставник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5943600" y="2590920"/>
            <a:ext cx="3200400" cy="426708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4267080"/>
              <a:gd name="textAreaBottom" fmla="*/ 4110840 h 4267080"/>
            </a:gdLst>
            <a:ahLst/>
            <a:rect l="textAreaLeft" t="textAreaTop" r="textAreaRight" b="textAreaBottom"/>
            <a:pathLst>
              <a:path w="21600" h="28798">
                <a:moveTo>
                  <a:pt x="3600" y="0"/>
                </a:moveTo>
                <a:arcTo wR="3600" hR="3600" stAng="16200000" swAng="-5400000"/>
                <a:lnTo>
                  <a:pt x="0" y="25198"/>
                </a:lnTo>
                <a:arcTo wR="3600" hR="3600" stAng="10800000" swAng="-5400000"/>
                <a:lnTo>
                  <a:pt x="18000" y="28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round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ает культурный   и профессиональный уровень подготовки кад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лучшаются взаимоотношения между сотрудникам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0" y="1295280"/>
            <a:ext cx="271296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round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Наставник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819520" y="1447920"/>
            <a:ext cx="26668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round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Молодой специали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562720" y="1447920"/>
            <a:ext cx="34290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round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дминистрация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2743200" y="0"/>
            <a:ext cx="3352680" cy="10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round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аставнич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AutoShape 11"/>
          <p:cNvCxnSpPr/>
          <p:nvPr/>
        </p:nvCxnSpPr>
        <p:spPr>
          <a:xfrm>
            <a:off x="4266720" y="1066680"/>
            <a:ext cx="1080" cy="3564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5" name="AutoShape 12"/>
          <p:cNvCxnSpPr/>
          <p:nvPr/>
        </p:nvCxnSpPr>
        <p:spPr>
          <a:xfrm flipH="1">
            <a:off x="2894760" y="1066320"/>
            <a:ext cx="970920" cy="2041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6" name="AutoShape 13"/>
          <p:cNvCxnSpPr/>
          <p:nvPr/>
        </p:nvCxnSpPr>
        <p:spPr>
          <a:xfrm>
            <a:off x="4495680" y="1066320"/>
            <a:ext cx="1270800" cy="2739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7" name="AutoShape 14"/>
          <p:cNvCxnSpPr/>
          <p:nvPr/>
        </p:nvCxnSpPr>
        <p:spPr>
          <a:xfrm>
            <a:off x="1294920" y="2133720"/>
            <a:ext cx="1080" cy="2732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8" name="AutoShape 15"/>
          <p:cNvCxnSpPr/>
          <p:nvPr/>
        </p:nvCxnSpPr>
        <p:spPr>
          <a:xfrm>
            <a:off x="4190760" y="2362320"/>
            <a:ext cx="1080" cy="2732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9" name="AutoShape 16"/>
          <p:cNvCxnSpPr/>
          <p:nvPr/>
        </p:nvCxnSpPr>
        <p:spPr>
          <a:xfrm>
            <a:off x="7391160" y="2209680"/>
            <a:ext cx="13320" cy="3549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Формы и методы работы с молодыми специалистами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3"/>
          <p:cNvSpPr/>
          <p:nvPr/>
        </p:nvSpPr>
        <p:spPr>
          <a:xfrm>
            <a:off x="0" y="2057400"/>
            <a:ext cx="3657600" cy="99072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4"/>
          <p:cNvSpPr/>
          <p:nvPr/>
        </p:nvSpPr>
        <p:spPr>
          <a:xfrm>
            <a:off x="228600" y="3352680"/>
            <a:ext cx="320040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5"/>
          <p:cNvSpPr/>
          <p:nvPr/>
        </p:nvSpPr>
        <p:spPr>
          <a:xfrm>
            <a:off x="228600" y="4419720"/>
            <a:ext cx="320040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6"/>
          <p:cNvSpPr/>
          <p:nvPr/>
        </p:nvSpPr>
        <p:spPr>
          <a:xfrm>
            <a:off x="4343400" y="4800600"/>
            <a:ext cx="449568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еля усп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4343400" y="5943600"/>
            <a:ext cx="449568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марка педагог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8"/>
          <p:cNvSpPr/>
          <p:nvPr/>
        </p:nvSpPr>
        <p:spPr>
          <a:xfrm>
            <a:off x="4267080" y="3657600"/>
            <a:ext cx="449604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9"/>
          <p:cNvSpPr/>
          <p:nvPr/>
        </p:nvSpPr>
        <p:spPr>
          <a:xfrm>
            <a:off x="4114800" y="2590920"/>
            <a:ext cx="449568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0"/>
          <p:cNvSpPr/>
          <p:nvPr/>
        </p:nvSpPr>
        <p:spPr>
          <a:xfrm>
            <a:off x="4038480" y="1600200"/>
            <a:ext cx="449604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ые мет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Выгнутая вправо стрелка 11"/>
          <p:cNvSpPr/>
          <p:nvPr/>
        </p:nvSpPr>
        <p:spPr>
          <a:xfrm>
            <a:off x="3200400" y="274320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0000e6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Выгнутая вправо стрелка 12"/>
          <p:cNvSpPr/>
          <p:nvPr/>
        </p:nvSpPr>
        <p:spPr>
          <a:xfrm>
            <a:off x="3124080" y="396252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0000e6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Выгнутая вправо стрелка 13"/>
          <p:cNvSpPr/>
          <p:nvPr/>
        </p:nvSpPr>
        <p:spPr>
          <a:xfrm>
            <a:off x="8229600" y="419112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0000e6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Выгнутая вправо стрелка 14"/>
          <p:cNvSpPr/>
          <p:nvPr/>
        </p:nvSpPr>
        <p:spPr>
          <a:xfrm>
            <a:off x="8229600" y="541008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0000e6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ыгнутая вправо стрелка 15"/>
          <p:cNvSpPr/>
          <p:nvPr/>
        </p:nvSpPr>
        <p:spPr>
          <a:xfrm>
            <a:off x="8229600" y="304812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0000e6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ыгнутая вправо стрелка 16"/>
          <p:cNvSpPr/>
          <p:nvPr/>
        </p:nvSpPr>
        <p:spPr>
          <a:xfrm>
            <a:off x="8001000" y="182880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0000e6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1-17T09:19:19Z</dcterms:created>
  <dc:creator/>
  <dc:description/>
  <dc:language>en-US</dc:language>
  <cp:lastModifiedBy>Admin</cp:lastModifiedBy>
  <dcterms:modified xsi:type="dcterms:W3CDTF">2025-11-17T09:22:5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EC6D44F59C34D96967C9457938B8DA5_12</vt:lpwstr>
  </property>
  <property fmtid="{D5CDD505-2E9C-101B-9397-08002B2CF9AE}" pid="3" name="KSOProductBuildVer">
    <vt:lpwstr>1049-12.2.0.23155</vt:lpwstr>
  </property>
  <property fmtid="{D5CDD505-2E9C-101B-9397-08002B2CF9AE}" pid="4" name="Version">
    <vt:r8>1</vt:r8>
  </property>
</Properties>
</file>